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5DD-3B21-4153-8BB3-3530E105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CF4E-AC2C-42C5-9335-7A9AE9F0D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A2F8-94F5-4BB8-B9E6-C17B825D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244-7F32-4095-BF7C-2103B116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FFAB-AC8B-4671-8E62-EC278D13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2BE-FD13-4071-90A7-197BAD1B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EB2-E562-4F6E-BCE9-7251782EF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2090-A3EA-4125-A846-63817C42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56F-B56B-4FEE-82C2-F4162942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BA4-3648-402B-872E-8CA3B37A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9202-C1B4-4283-9A64-E4BD1859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119-879A-432B-B278-781EDBC6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6F1-F9AA-4E47-80EF-B206FBA4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B31A-2673-4C07-8E25-583C4FDB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9E9-3011-42D8-9AB8-7EDCF099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0D9-B220-4C26-B1EB-37938855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C93D-AC71-4001-B4F4-195B28BE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E3E-9551-443F-BD23-7714D493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1A8-4BAF-4159-BC52-46DC4BF1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7D3-75F4-4A03-8EDA-769D5E1D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AD9D-5702-4ED3-9425-F74513EC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BF9C-3989-4F30-86CE-92B44B0A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１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264-A130-4C65-B8E8-7ECCF009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１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0217-4FA3-4FE7-95A1-821DE0C6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E02E-EEB3-48B3-B092-E9E6B2FD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１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CDAF-0224-4A72-8C39-E55D9FD9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22E-1607-4E34-956C-FC25D9D0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２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6E7-DC80-43D3-9788-E9407F22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２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694B-A5E2-48EE-BBC4-61A064F2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２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2FA-F725-497B-B8DD-2D634322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2453-5220-42E9-B41F-C5669A2A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３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2C1-59C6-485E-9193-A0C6132A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２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FFA-740C-46AD-8353-A50C9ACD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３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46F-9658-434A-AF01-57B827C7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A63-A65D-4845-BB20-67511BE9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168-17F2-4474-AC59-20CF0581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４　１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0DE-B197-4A23-A4E7-63431B2E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C8F-3C05-4198-B7B1-4F0E3CF4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４　１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D41E-3878-4E08-943D-70C94CE5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DD1-F136-4479-A5AE-35904D8F7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9FC-283C-4A72-B30D-851AA723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0AA-0DE2-4901-8BDD-7611856F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8D5-0C8A-4BB7-B0B0-1A92065C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BBC-5512-4717-A825-5721B946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321-DB2B-4E9D-BD70-41CFB97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231-65C6-446F-8E13-7C556B4B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81B-2EA1-4EFA-B558-3D519CA0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088-2DD0-47DB-A10B-4C1E25E1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C1E-F4CD-47E5-B833-3D7D625B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A34-306F-4233-B76A-299516D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13E-AA6B-496D-81A4-4E5DC3A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985-3FD9-4BCF-8D7B-2A2CBB3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F0E-A736-46CC-98FD-0F8EB59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0D4-2FD3-4A91-A974-B5E592B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535-726A-4B7C-BFFB-DD295EF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E6CA-0182-4237-9E48-9FD01A18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新しい日本語能力試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４の問題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1773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たら　　　　　　　に　 ほん　 ご　  のう  りょく　 し　  け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356000" y="2774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用法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684360" y="5013360"/>
            <a:ext cx="431640" cy="4302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189000"/>
            <a:ext cx="28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9840" y="1988640"/>
            <a:ext cx="85345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ぎの　ことばの　つかいかたで　いちばん　いい　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１・２・３・４から　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じゅうし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としょかんの　となりの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じゅうしょ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　ゆうびんきょく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あしたの　かいぎの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じゅうしょ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　５かい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ここに　あなたの　うちの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じゅうしょ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　かい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わたしに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ールの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じゅうしょ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　おしえてくださ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MCj00890380000[1]"/>
          <p:cNvPicPr/>
          <p:nvPr/>
        </p:nvPicPr>
        <p:blipFill>
          <a:blip r:embed="rId1"/>
          <a:stretch/>
        </p:blipFill>
        <p:spPr>
          <a:xfrm>
            <a:off x="7451640" y="476280"/>
            <a:ext cx="970200" cy="931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702000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95640" y="9223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う　　ほ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４　言語知識（文法）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1844640"/>
          <a:ext cx="5905440" cy="2792520"/>
        </p:xfrm>
        <a:graphic>
          <a:graphicData uri="http://schemas.openxmlformats.org/drawingml/2006/table">
            <a:tbl>
              <a:tblPr/>
              <a:tblGrid>
                <a:gridCol w="3741840"/>
                <a:gridCol w="216360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１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２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章の文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34"/>
          <p:cNvSpPr/>
          <p:nvPr/>
        </p:nvSpPr>
        <p:spPr>
          <a:xfrm>
            <a:off x="2124000" y="2421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　　　　ぶん 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2124000" y="39466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しょう　　　　ぶん  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2050920" y="561960"/>
            <a:ext cx="60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げん　　 ご　　　 ち　　 しき　　　　　ぶん　  ぽう　　　　　　　　　もん　　だい　　 こう　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4"/>
          <p:cNvSpPr/>
          <p:nvPr/>
        </p:nvSpPr>
        <p:spPr>
          <a:xfrm>
            <a:off x="971640" y="4653000"/>
            <a:ext cx="360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64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１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8000" y="4428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5640" y="1916280"/>
            <a:ext cx="7559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（　　）に　何を　入れますか。１・２・３・４から　いち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い　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「わたしの　けしゴム、見ませんでしたか。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「あ、つくえの　下に　（　　　）　よ。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おちて  います　　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おちて  いませ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おちます　　　　　　　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おちませ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j00890380000[1]"/>
          <p:cNvPicPr/>
          <p:nvPr/>
        </p:nvPicPr>
        <p:blipFill>
          <a:blip r:embed="rId1"/>
          <a:stretch/>
        </p:blipFill>
        <p:spPr>
          <a:xfrm>
            <a:off x="7596360" y="476280"/>
            <a:ext cx="1009440" cy="96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702000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916360" y="620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  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79280" y="3933720"/>
            <a:ext cx="885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  　　　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 ★ 　　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   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79240" y="5400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826920" y="602136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959760" y="5157720"/>
            <a:ext cx="1380240" cy="717120"/>
            <a:chOff x="959760" y="5157720"/>
            <a:chExt cx="1380240" cy="717120"/>
          </a:xfrm>
        </p:grpSpPr>
        <p:sp>
          <p:nvSpPr>
            <p:cNvPr id="142" name="Rectangle 6"/>
            <p:cNvSpPr/>
            <p:nvPr/>
          </p:nvSpPr>
          <p:spPr>
            <a:xfrm>
              <a:off x="959760" y="54151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買い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111600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2902680" y="5157720"/>
            <a:ext cx="1239840" cy="717120"/>
            <a:chOff x="2902680" y="5157720"/>
            <a:chExt cx="1239840" cy="717120"/>
          </a:xfrm>
        </p:grpSpPr>
        <p:sp>
          <p:nvSpPr>
            <p:cNvPr id="145" name="Rectangle 9"/>
            <p:cNvSpPr/>
            <p:nvPr/>
          </p:nvSpPr>
          <p:spPr>
            <a:xfrm>
              <a:off x="2902680" y="541512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日本語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29163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にほん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4964400" y="5157720"/>
            <a:ext cx="1422720" cy="717120"/>
            <a:chOff x="4964400" y="5157720"/>
            <a:chExt cx="1422720" cy="717120"/>
          </a:xfrm>
        </p:grpSpPr>
        <p:sp>
          <p:nvSpPr>
            <p:cNvPr id="148" name="Rectangle 12"/>
            <p:cNvSpPr/>
            <p:nvPr/>
          </p:nvSpPr>
          <p:spPr>
            <a:xfrm>
              <a:off x="4964400" y="5415120"/>
              <a:ext cx="14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行きまし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50637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561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08000" y="44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476360" y="1125360"/>
            <a:ext cx="720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・２・３・４を並べて文を作ります。★に入るもの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どれになるかを答えます。</a:t>
            </a:r>
            <a:r>
              <a:rPr b="0" lang="en-US" sz="2400" spc="-1" strike="noStrike">
                <a:solidFill>
                  <a:srgbClr val="ff0000"/>
                </a:solidFill>
                <a:latin typeface="ＭＳ Ｐゴシック"/>
              </a:rPr>
              <a:t>N5</a:t>
            </a: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の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例を見てみ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187280" y="299736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★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　入る　ものは　どれですか。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ちばん　いい　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95280" y="3213000"/>
            <a:ext cx="64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MCj02540960000[1]"/>
          <p:cNvPicPr/>
          <p:nvPr/>
        </p:nvPicPr>
        <p:blipFill>
          <a:blip r:embed="rId1"/>
          <a:stretch/>
        </p:blipFill>
        <p:spPr>
          <a:xfrm>
            <a:off x="250920" y="1484280"/>
            <a:ext cx="1152360" cy="1019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826920" y="59500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買いに　　　２日本語の　　　３行きました　　　４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3203640" y="1125360"/>
            <a:ext cx="42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ら　　　　　　 ぶん　　  つく　　　　　　　　　　　　　　　　　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3276720" y="260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  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3419640" y="170028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　　　　　　　　　　　　　　　　　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れい　　　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411280" y="292428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4356000" y="342900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227E-008 L -0.11354 -0.12584 E">
                                      <p:cBhvr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5987E-006 L -0.37535 -0.13023 E">
                                      <p:cBhvr>
                                        <p:cTn id="5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46059 -0.1257 E">
                                      <p:cBhvr>
                                        <p:cTn id="5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227E-008 L 0.23212 -0.12584 E">
                                      <p:cBhvr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08000" y="1989000"/>
            <a:ext cx="9036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  ★  　</a:t>
            </a:r>
            <a:r>
              <a:rPr b="0" i="1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じしょを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日本語の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行きました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買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日本語の　じしょを　買いに　行きました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行きました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日本語の　じしょを　買いに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50920" y="2421000"/>
            <a:ext cx="79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を作るとき、気をつけてください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文のとちゅうに　。はありません。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08000" y="4428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MCj02540960000[1]"/>
          <p:cNvPicPr/>
          <p:nvPr/>
        </p:nvPicPr>
        <p:blipFill>
          <a:blip r:embed="rId1"/>
          <a:stretch/>
        </p:blipFill>
        <p:spPr>
          <a:xfrm>
            <a:off x="826920" y="1197000"/>
            <a:ext cx="1008360" cy="892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08000" y="378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正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正し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6227640" y="5805360"/>
            <a:ext cx="2160720" cy="719280"/>
          </a:xfrm>
          <a:prstGeom prst="wedgeRoundRectCallout">
            <a:avLst>
              <a:gd name="adj1" fmla="val 24208"/>
              <a:gd name="adj2" fmla="val -2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3132000" y="26028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　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627280" y="109692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  つく　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627280" y="162864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ぶん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357336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★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　入る　ものは　どれですか。１・２・３・４か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ちばん　いい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山田さんは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  ★ 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で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やま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994320" y="29973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上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843640" y="2997360"/>
            <a:ext cx="132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ギター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009760" y="2997360"/>
            <a:ext cx="132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ひける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010280" y="29973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歌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81080" y="3500280"/>
            <a:ext cx="8783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山田さんは 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★  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で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79280" y="414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やま 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023120" y="530064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上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2857680" y="5300640"/>
            <a:ext cx="132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ギター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5027040" y="5300640"/>
            <a:ext cx="132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ひける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7034040" y="530064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歌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4859280" y="537372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86920" y="404640"/>
            <a:ext cx="58438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108000" y="4428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187280" y="2781360"/>
            <a:ext cx="10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じょう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7236000" y="2781360"/>
            <a:ext cx="72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う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3" descr="MCj00890380000[1]"/>
          <p:cNvPicPr/>
          <p:nvPr/>
        </p:nvPicPr>
        <p:blipFill>
          <a:blip r:embed="rId1"/>
          <a:stretch/>
        </p:blipFill>
        <p:spPr>
          <a:xfrm>
            <a:off x="7740720" y="333360"/>
            <a:ext cx="1008000" cy="9698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4"/>
          <p:cNvSpPr/>
          <p:nvPr/>
        </p:nvSpPr>
        <p:spPr>
          <a:xfrm>
            <a:off x="709308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2843280" y="260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4062E-006 L -0.08038 0.20564 E">
                                      <p:cBhvr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84062E-006 L -0.15191 0.20564 E">
                                      <p:cBhvr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4062E-006 L -0.16788 0.20564 E">
                                      <p:cBhvr>
                                        <p:cTn id="88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84062E-006 L 0.62379 0.20564 E">
                                      <p:cBhvr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98797E-006 L 0.00017 0.3405 E">
                                      <p:cBhvr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98797E-006 L 8.33333E-007 0.3405 E">
                                      <p:cBhvr>
                                        <p:cTn id="110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8000" y="4428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547640" y="1052640"/>
            <a:ext cx="7309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文章の□に入れる、いちばんいいものをえら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の文だけではなく、前の文や後ろの文、文章全体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く読んで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6659640" y="4869000"/>
            <a:ext cx="2232000" cy="792000"/>
          </a:xfrm>
          <a:prstGeom prst="wedgeRoundRectCallout">
            <a:avLst>
              <a:gd name="adj1" fmla="val -2347"/>
              <a:gd name="adj2" fmla="val -46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"/>
          <p:cNvPicPr/>
          <p:nvPr/>
        </p:nvPicPr>
        <p:blipFill>
          <a:blip r:embed="rId1"/>
          <a:stretch/>
        </p:blipFill>
        <p:spPr>
          <a:xfrm>
            <a:off x="2124000" y="2681280"/>
            <a:ext cx="4319640" cy="3968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4"/>
          <p:cNvSpPr/>
          <p:nvPr/>
        </p:nvSpPr>
        <p:spPr>
          <a:xfrm>
            <a:off x="1692360" y="3284640"/>
            <a:ext cx="5040360" cy="1368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MCj02540960000[1]"/>
          <p:cNvPicPr/>
          <p:nvPr/>
        </p:nvPicPr>
        <p:blipFill>
          <a:blip r:embed="rId2"/>
          <a:stretch/>
        </p:blipFill>
        <p:spPr>
          <a:xfrm>
            <a:off x="324000" y="1484280"/>
            <a:ext cx="1152360" cy="1019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6"/>
          <p:cNvSpPr/>
          <p:nvPr/>
        </p:nvSpPr>
        <p:spPr>
          <a:xfrm>
            <a:off x="3132000" y="260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しょう　　　　　　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979640" y="981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しょう　　　　　　　　　　　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195640" y="1557360"/>
            <a:ext cx="626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　　　　　　　　　　　　　　　　　　　まえ　　　　ぶん　　　　　うし　　　　　　　 ぶん　　  ぶん　しょう　ぜん たい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1979640" y="210492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よ　　　　　　　　　こ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476360" y="701640"/>
            <a:ext cx="6353280" cy="303840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1042920" y="4040280"/>
            <a:ext cx="6415200" cy="2009520"/>
          </a:xfrm>
          <a:prstGeom prst="rect">
            <a:avLst/>
          </a:prstGeom>
          <a:ln w="0">
            <a:noFill/>
          </a:ln>
        </p:spPr>
      </p:pic>
      <p:sp>
        <p:nvSpPr>
          <p:cNvPr id="209" name="Oval 6"/>
          <p:cNvSpPr/>
          <p:nvPr/>
        </p:nvSpPr>
        <p:spPr>
          <a:xfrm>
            <a:off x="6300720" y="4437000"/>
            <a:ext cx="217440" cy="21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2916360" y="5734080"/>
            <a:ext cx="217440" cy="21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04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MCj00890380000[1]"/>
          <p:cNvPicPr/>
          <p:nvPr/>
        </p:nvPicPr>
        <p:blipFill>
          <a:blip r:embed="rId3"/>
          <a:stretch/>
        </p:blipFill>
        <p:spPr>
          <a:xfrm>
            <a:off x="7956720" y="404640"/>
            <a:ext cx="934920" cy="90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3203640" y="11592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しょう　　　　　ぶん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４　読解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1484280"/>
          <a:ext cx="7921800" cy="4143240"/>
        </p:xfrm>
        <a:graphic>
          <a:graphicData uri="http://schemas.openxmlformats.org/drawingml/2006/table">
            <a:tbl>
              <a:tblPr/>
              <a:tblGrid>
                <a:gridCol w="4826160"/>
                <a:gridCol w="309564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2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情報検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86"/>
          <p:cNvSpPr/>
          <p:nvPr/>
        </p:nvSpPr>
        <p:spPr>
          <a:xfrm>
            <a:off x="3059280" y="40464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どっ　　かい　　　　　　　もん　　だい　　こう　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1258920" y="206064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　 よう　　り　　かい　　たん 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0"/>
          <p:cNvSpPr/>
          <p:nvPr/>
        </p:nvSpPr>
        <p:spPr>
          <a:xfrm>
            <a:off x="1258920" y="342900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　よう　　　り　　かい　ちゅう 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1"/>
          <p:cNvSpPr/>
          <p:nvPr/>
        </p:nvSpPr>
        <p:spPr>
          <a:xfrm>
            <a:off x="1258920" y="47973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ょう　ほう　　けん　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2"/>
          <p:cNvSpPr/>
          <p:nvPr/>
        </p:nvSpPr>
        <p:spPr>
          <a:xfrm>
            <a:off x="2700360" y="278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3"/>
          <p:cNvSpPr/>
          <p:nvPr/>
        </p:nvSpPr>
        <p:spPr>
          <a:xfrm>
            <a:off x="205092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31640" y="333360"/>
            <a:ext cx="626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内容理解（短文）　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２　テキス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985080" cy="548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MCj00890380000[1]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969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979640" y="3459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　よう　　り　かい　　たん　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に出てくる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1052640"/>
            <a:ext cx="8785440" cy="561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旧試験の問題と比較して、変わったかどうかを表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マークです。３つ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同じ形式です。変わったところはありませ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部分的に変わったところが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旧試験にはなかった、新しい形式で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9280" y="148428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 し　 けん　　　　　もん　だい　　　  ひ　　かく　　　　　　　　　　  か　　　　　　　　　　　　　　　　　　　　　　　　　　　  あら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16000" y="299736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な　　　　けい　しき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116000" y="486900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し　 けん　　　　　　　　　　　　　　　　　　　　　　　　あたら　　　　　　 けい　し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116000" y="39337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ぶ　 ぶん　てき　　　　　 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8000" y="4428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610920" y="620280"/>
            <a:ext cx="670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内容理解（短文）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質問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971640" y="2637000"/>
            <a:ext cx="7707240" cy="2761920"/>
          </a:xfrm>
          <a:prstGeom prst="rect">
            <a:avLst/>
          </a:prstGeom>
          <a:ln w="0">
            <a:noFill/>
          </a:ln>
        </p:spPr>
      </p:pic>
      <p:sp>
        <p:nvSpPr>
          <p:cNvPr id="236" name="Oval 11"/>
          <p:cNvSpPr/>
          <p:nvPr/>
        </p:nvSpPr>
        <p:spPr>
          <a:xfrm>
            <a:off x="1116000" y="4076640"/>
            <a:ext cx="431640" cy="360360"/>
          </a:xfrm>
          <a:prstGeom prst="ellipse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MCj00890380000[1]"/>
          <p:cNvPicPr/>
          <p:nvPr/>
        </p:nvPicPr>
        <p:blipFill>
          <a:blip r:embed="rId2"/>
          <a:stretch/>
        </p:blipFill>
        <p:spPr>
          <a:xfrm>
            <a:off x="7812000" y="404640"/>
            <a:ext cx="1008000" cy="970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3"/>
          <p:cNvSpPr/>
          <p:nvPr/>
        </p:nvSpPr>
        <p:spPr>
          <a:xfrm>
            <a:off x="1403280" y="633240"/>
            <a:ext cx="57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　よう　　 り　  かい　　　たん　ぶん　　　　　　　　　　　　　　　　　　　　　　しつ　 も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680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内容理解（中文）　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２　テキス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08000" y="4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72520" cy="5613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MCj00890380000[1]"/>
          <p:cNvPicPr/>
          <p:nvPr/>
        </p:nvPicPr>
        <p:blipFill>
          <a:blip r:embed="rId2"/>
          <a:stretch/>
        </p:blipFill>
        <p:spPr>
          <a:xfrm>
            <a:off x="8101080" y="404640"/>
            <a:ext cx="792000" cy="7621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1476360" y="333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  よう　  り　 かい　　 ちゅう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459640" cy="2974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826920" y="836640"/>
            <a:ext cx="658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内容理解（中文）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質問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900000" y="2924280"/>
            <a:ext cx="432000" cy="433440"/>
          </a:xfrm>
          <a:prstGeom prst="ellipse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MCj00890380000[1]"/>
          <p:cNvPicPr/>
          <p:nvPr/>
        </p:nvPicPr>
        <p:blipFill>
          <a:blip r:embed="rId2"/>
          <a:stretch/>
        </p:blipFill>
        <p:spPr>
          <a:xfrm>
            <a:off x="7740720" y="620640"/>
            <a:ext cx="1008000" cy="9702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9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547640" y="777960"/>
            <a:ext cx="56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　よう　　　り　　かい　　　ちゅうぶん　　　　　　　　　　　　　　　　　　　　　 しつ　　も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情報検索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08000" y="4428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11253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はじめに質問が、次にテキストがあります。はじめに</a:t>
            </a: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質問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読みます。そのあとで、</a:t>
            </a:r>
            <a:r>
              <a:rPr b="0" lang="ja-JP" sz="2400" spc="-1" strike="noStrike">
                <a:solidFill>
                  <a:srgbClr val="333399"/>
                </a:solidFill>
                <a:latin typeface="ＭＳ Ｐゴシック"/>
              </a:rPr>
              <a:t>テキス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読んで、答えをさがします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5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672000" cy="335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6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2575080" cy="4005360"/>
          </a:xfrm>
          <a:prstGeom prst="rect">
            <a:avLst/>
          </a:prstGeom>
          <a:ln w="0">
            <a:noFill/>
          </a:ln>
        </p:spPr>
      </p:pic>
      <p:sp>
        <p:nvSpPr>
          <p:cNvPr id="259" name="Line 27"/>
          <p:cNvSpPr/>
          <p:nvPr/>
        </p:nvSpPr>
        <p:spPr>
          <a:xfrm>
            <a:off x="755640" y="328464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>
            <a:off x="1042920" y="494172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9"/>
          <p:cNvSpPr/>
          <p:nvPr/>
        </p:nvSpPr>
        <p:spPr>
          <a:xfrm>
            <a:off x="4859280" y="2637000"/>
            <a:ext cx="2665440" cy="367164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MCj02540960000[1]"/>
          <p:cNvPicPr/>
          <p:nvPr/>
        </p:nvPicPr>
        <p:blipFill>
          <a:blip r:embed="rId3"/>
          <a:stretch/>
        </p:blipFill>
        <p:spPr>
          <a:xfrm>
            <a:off x="179280" y="119700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1"/>
          <p:cNvSpPr/>
          <p:nvPr/>
        </p:nvSpPr>
        <p:spPr>
          <a:xfrm>
            <a:off x="3348000" y="1159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ょう　　ほう　　けん　　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2484360" y="1138320"/>
            <a:ext cx="64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つ もん　　　　　　　　　　　　　　　　　　　　　　　　　　　　　　　　　　　　　　　  　　　　　　　 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しつ も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1258920" y="170028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　　　　　　　　　　　　　　　　　　　　　　　　　　　　　　　　　　　　　　　　よ　　　　　　　　　こた　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4"/>
          <p:cNvSpPr/>
          <p:nvPr/>
        </p:nvSpPr>
        <p:spPr>
          <a:xfrm>
            <a:off x="2268360" y="6066000"/>
            <a:ext cx="2232360" cy="676080"/>
          </a:xfrm>
          <a:prstGeom prst="wedgeRoundRectCallout">
            <a:avLst>
              <a:gd name="adj1" fmla="val 13726"/>
              <a:gd name="adj2" fmla="val -462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381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情報検索　 </a:t>
            </a:r>
            <a:r>
              <a:rPr b="0" lang="ja-JP" sz="36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108000" y="4428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969080" cy="4969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5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719520" cy="5545440"/>
          </a:xfrm>
          <a:prstGeom prst="rect">
            <a:avLst/>
          </a:prstGeom>
          <a:ln w="0">
            <a:noFill/>
          </a:ln>
        </p:spPr>
      </p:pic>
      <p:sp>
        <p:nvSpPr>
          <p:cNvPr id="271" name="Oval 26"/>
          <p:cNvSpPr/>
          <p:nvPr/>
        </p:nvSpPr>
        <p:spPr>
          <a:xfrm>
            <a:off x="324000" y="2421000"/>
            <a:ext cx="431640" cy="360360"/>
          </a:xfrm>
          <a:prstGeom prst="ellipse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7"/>
          <p:cNvSpPr/>
          <p:nvPr/>
        </p:nvSpPr>
        <p:spPr>
          <a:xfrm>
            <a:off x="324000" y="5229360"/>
            <a:ext cx="431640" cy="360360"/>
          </a:xfrm>
          <a:prstGeom prst="ellipse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8" descr="MCj00890380000[1]"/>
          <p:cNvPicPr/>
          <p:nvPr/>
        </p:nvPicPr>
        <p:blipFill>
          <a:blip r:embed="rId3"/>
          <a:stretch/>
        </p:blipFill>
        <p:spPr>
          <a:xfrm>
            <a:off x="7812000" y="333360"/>
            <a:ext cx="720720" cy="6937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9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3348000" y="1159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ょう　　ほう　　けん　　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409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４　聴解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619280" y="1916280"/>
          <a:ext cx="5543640" cy="3676320"/>
        </p:xfrm>
        <a:graphic>
          <a:graphicData uri="http://schemas.openxmlformats.org/drawingml/2006/table">
            <a:tbl>
              <a:tblPr/>
              <a:tblGrid>
                <a:gridCol w="3155760"/>
                <a:gridCol w="23878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課題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ポイント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発話表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即時応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25"/>
          <p:cNvSpPr/>
          <p:nvPr/>
        </p:nvSpPr>
        <p:spPr>
          <a:xfrm>
            <a:off x="3059280" y="62064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ちょう　　かい　　　　　　もん　　だい　　こう　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2340000" y="25779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　　だい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7"/>
          <p:cNvSpPr/>
          <p:nvPr/>
        </p:nvSpPr>
        <p:spPr>
          <a:xfrm>
            <a:off x="3708360" y="3357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268360" y="409104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はつ　わ　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2268360" y="4869000"/>
            <a:ext cx="18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そく　　じ　　　おう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69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聴解の問題が大きく変わり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995640" y="1052640"/>
          <a:ext cx="2952720" cy="6699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新試験＞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50920" y="1341360"/>
          <a:ext cx="2808360" cy="36720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旧試験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Ⅰ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ある問題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Ⅱ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ない問題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995640" y="1700280"/>
          <a:ext cx="2952720" cy="7858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題理解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8" name="AutoShape 25"/>
          <p:cNvSpPr/>
          <p:nvPr/>
        </p:nvSpPr>
        <p:spPr>
          <a:xfrm>
            <a:off x="3203640" y="2349360"/>
            <a:ext cx="720720" cy="2449800"/>
          </a:xfrm>
          <a:custGeom>
            <a:avLst/>
            <a:gdLst>
              <a:gd name="textAreaLeft" fmla="*/ 112320 w 720720"/>
              <a:gd name="textAreaRight" fmla="*/ 630720 w 720720"/>
              <a:gd name="textAreaTop" fmla="*/ 612360 h 2449800"/>
              <a:gd name="textAreaBottom" fmla="*/ 1837440 h 2449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7093080" y="2421000"/>
            <a:ext cx="2050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の内容について答え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7308720" y="5373720"/>
            <a:ext cx="183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正しく会話をしているかどうかを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95640" y="2421000"/>
          <a:ext cx="2952720" cy="718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ポイント理解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995640" y="3141720"/>
          <a:ext cx="2952720" cy="15177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概要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にはありません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995640" y="4076640"/>
          <a:ext cx="2952720" cy="97020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合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にはありません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995640" y="5877000"/>
          <a:ext cx="2952720" cy="7858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即時応答</a:t>
                      </a: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995640" y="5157720"/>
          <a:ext cx="2952720" cy="7192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発話表現</a:t>
                      </a: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58" descr="MCj02540960000[1]"/>
          <p:cNvPicPr/>
          <p:nvPr/>
        </p:nvPicPr>
        <p:blipFill>
          <a:blip r:embed="rId1"/>
          <a:stretch/>
        </p:blipFill>
        <p:spPr>
          <a:xfrm>
            <a:off x="900000" y="1159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9"/>
          <p:cNvSpPr/>
          <p:nvPr/>
        </p:nvSpPr>
        <p:spPr>
          <a:xfrm>
            <a:off x="2124000" y="274680"/>
            <a:ext cx="47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ちょう　 かい　　　　　　　もん　　だい　　　　　　　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0"/>
          <p:cNvSpPr/>
          <p:nvPr/>
        </p:nvSpPr>
        <p:spPr>
          <a:xfrm>
            <a:off x="900000" y="1413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　 し　　 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1"/>
          <p:cNvSpPr/>
          <p:nvPr/>
        </p:nvSpPr>
        <p:spPr>
          <a:xfrm>
            <a:off x="4572000" y="170028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　　　だい　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2"/>
          <p:cNvSpPr/>
          <p:nvPr/>
        </p:nvSpPr>
        <p:spPr>
          <a:xfrm>
            <a:off x="5796000" y="24210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3"/>
          <p:cNvSpPr/>
          <p:nvPr/>
        </p:nvSpPr>
        <p:spPr>
          <a:xfrm>
            <a:off x="4643280" y="3141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い　よう　　り　 かい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4"/>
          <p:cNvSpPr/>
          <p:nvPr/>
        </p:nvSpPr>
        <p:spPr>
          <a:xfrm>
            <a:off x="4643280" y="407664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う　 ごう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5"/>
          <p:cNvSpPr/>
          <p:nvPr/>
        </p:nvSpPr>
        <p:spPr>
          <a:xfrm>
            <a:off x="4500720" y="58910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そく　　　じ　　　おう　　 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6"/>
          <p:cNvSpPr/>
          <p:nvPr/>
        </p:nvSpPr>
        <p:spPr>
          <a:xfrm>
            <a:off x="4500720" y="50990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はつ　　わ　　 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7"/>
          <p:cNvSpPr/>
          <p:nvPr/>
        </p:nvSpPr>
        <p:spPr>
          <a:xfrm>
            <a:off x="7020000" y="1773360"/>
            <a:ext cx="216000" cy="2950920"/>
          </a:xfrm>
          <a:custGeom>
            <a:avLst/>
            <a:gdLst>
              <a:gd name="textAreaLeft" fmla="*/ 0 w 216000"/>
              <a:gd name="textAreaRight" fmla="*/ 78120 w 21600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8"/>
          <p:cNvSpPr/>
          <p:nvPr/>
        </p:nvSpPr>
        <p:spPr>
          <a:xfrm>
            <a:off x="7020000" y="5300640"/>
            <a:ext cx="214200" cy="1152720"/>
          </a:xfrm>
          <a:custGeom>
            <a:avLst/>
            <a:gdLst>
              <a:gd name="textAreaLeft" fmla="*/ 0 w 214200"/>
              <a:gd name="textAreaRight" fmla="*/ 77400 w 2142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9" descr="MCj04041310000[1]"/>
          <p:cNvPicPr/>
          <p:nvPr/>
        </p:nvPicPr>
        <p:blipFill>
          <a:blip r:embed="rId2"/>
          <a:stretch/>
        </p:blipFill>
        <p:spPr>
          <a:xfrm>
            <a:off x="7812000" y="3284640"/>
            <a:ext cx="819360" cy="826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0"/>
          <p:cNvSpPr/>
          <p:nvPr/>
        </p:nvSpPr>
        <p:spPr>
          <a:xfrm>
            <a:off x="7416720" y="4149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メモをとりながら聞いてもいい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1"/>
          <p:cNvSpPr/>
          <p:nvPr/>
        </p:nvSpPr>
        <p:spPr>
          <a:xfrm>
            <a:off x="7524720" y="2276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いよ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7308720" y="52722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だ　　　かい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0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　課題理解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これは、問題冊子（問題の紙）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900000" y="1341360"/>
            <a:ext cx="7705800" cy="525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971640" y="1413000"/>
            <a:ext cx="763272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まず　しつもんを　聞いて　ください。それから　話を　聞い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んだいようしの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　えらん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ぎゅうにゅう１本だ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ぎゅうにゅう１本と　チー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ぎゅうにゅう２本だ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ぎゅうにゅう２本と　チー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3" descr=""/>
          <p:cNvPicPr/>
          <p:nvPr/>
        </p:nvPicPr>
        <p:blipFill>
          <a:blip r:embed="rId1"/>
          <a:stretch/>
        </p:blipFill>
        <p:spPr>
          <a:xfrm>
            <a:off x="2484360" y="4797360"/>
            <a:ext cx="2200320" cy="17035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6"/>
          <p:cNvSpPr/>
          <p:nvPr/>
        </p:nvSpPr>
        <p:spPr>
          <a:xfrm>
            <a:off x="4356000" y="1773360"/>
            <a:ext cx="374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き　　　　　　　　　　　　　　　　　　　　　　　　　　　　　　はなし　　　　き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3635280" y="2133720"/>
            <a:ext cx="38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　　　　　　ひと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2843280" y="3284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ぽ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9"/>
          <p:cNvSpPr/>
          <p:nvPr/>
        </p:nvSpPr>
        <p:spPr>
          <a:xfrm>
            <a:off x="2843280" y="36450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ぽ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2771640" y="400536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ほ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1"/>
          <p:cNvSpPr/>
          <p:nvPr/>
        </p:nvSpPr>
        <p:spPr>
          <a:xfrm>
            <a:off x="2771640" y="436572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ほ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2" descr="MCj02540960000[1]"/>
          <p:cNvPicPr/>
          <p:nvPr/>
        </p:nvPicPr>
        <p:blipFill>
          <a:blip r:embed="rId2"/>
          <a:stretch/>
        </p:blipFill>
        <p:spPr>
          <a:xfrm>
            <a:off x="2050920" y="476280"/>
            <a:ext cx="935280" cy="826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33"/>
          <p:cNvSpPr/>
          <p:nvPr/>
        </p:nvSpPr>
        <p:spPr>
          <a:xfrm>
            <a:off x="5219640" y="4005360"/>
            <a:ext cx="3673440" cy="431640"/>
          </a:xfrm>
          <a:prstGeom prst="wedgeRoundRectCallout">
            <a:avLst>
              <a:gd name="adj1" fmla="val -865"/>
              <a:gd name="adj2" fmla="val 34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4"/>
          <p:cNvSpPr/>
          <p:nvPr/>
        </p:nvSpPr>
        <p:spPr>
          <a:xfrm>
            <a:off x="414036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　　だい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4284720" y="692280"/>
            <a:ext cx="30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 もん　だい　さっ　　し　　　　　　　　　　　　　　か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9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課題理解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9280" y="836640"/>
            <a:ext cx="2448000" cy="720720"/>
          </a:xfrm>
          <a:prstGeom prst="wedgeRoundRectCallout">
            <a:avLst>
              <a:gd name="adj1" fmla="val -18546"/>
              <a:gd name="adj2" fmla="val 125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6" descr=""/>
          <p:cNvPicPr/>
          <p:nvPr/>
        </p:nvPicPr>
        <p:blipFill>
          <a:blip r:embed="rId1"/>
          <a:stretch/>
        </p:blipFill>
        <p:spPr>
          <a:xfrm>
            <a:off x="2700360" y="1533600"/>
            <a:ext cx="3959280" cy="3065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7"/>
          <p:cNvSpPr/>
          <p:nvPr/>
        </p:nvSpPr>
        <p:spPr>
          <a:xfrm>
            <a:off x="193428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8"/>
          <p:cNvSpPr/>
          <p:nvPr/>
        </p:nvSpPr>
        <p:spPr>
          <a:xfrm>
            <a:off x="4716360" y="3141720"/>
            <a:ext cx="43200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24000" y="544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0"/>
          <p:cNvSpPr/>
          <p:nvPr/>
        </p:nvSpPr>
        <p:spPr>
          <a:xfrm>
            <a:off x="1547640" y="5084640"/>
            <a:ext cx="1511640" cy="1224000"/>
          </a:xfrm>
          <a:prstGeom prst="rightArrowCallout">
            <a:avLst>
              <a:gd name="adj1" fmla="val 25002"/>
              <a:gd name="adj2" fmla="val 25000"/>
              <a:gd name="adj3" fmla="val 2058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1"/>
          <p:cNvSpPr/>
          <p:nvPr/>
        </p:nvSpPr>
        <p:spPr>
          <a:xfrm>
            <a:off x="3132000" y="5084640"/>
            <a:ext cx="1656000" cy="1224000"/>
          </a:xfrm>
          <a:prstGeom prst="rightArrowCallout">
            <a:avLst>
              <a:gd name="adj1" fmla="val 25002"/>
              <a:gd name="adj2" fmla="val 25000"/>
              <a:gd name="adj3" fmla="val 22549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2"/>
          <p:cNvSpPr/>
          <p:nvPr/>
        </p:nvSpPr>
        <p:spPr>
          <a:xfrm>
            <a:off x="4859280" y="5084640"/>
            <a:ext cx="1728720" cy="1224000"/>
          </a:xfrm>
          <a:prstGeom prst="rightArrowCallout">
            <a:avLst>
              <a:gd name="adj1" fmla="val 25002"/>
              <a:gd name="adj2" fmla="val 25000"/>
              <a:gd name="adj3" fmla="val 23539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4" descr="MCj00890380000[1]"/>
          <p:cNvPicPr/>
          <p:nvPr/>
        </p:nvPicPr>
        <p:blipFill>
          <a:blip r:embed="rId2"/>
          <a:stretch/>
        </p:blipFill>
        <p:spPr>
          <a:xfrm>
            <a:off x="7596360" y="333360"/>
            <a:ext cx="100800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5"/>
          <p:cNvSpPr/>
          <p:nvPr/>
        </p:nvSpPr>
        <p:spPr>
          <a:xfrm>
            <a:off x="6659640" y="5084640"/>
            <a:ext cx="151272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7"/>
          <p:cNvSpPr/>
          <p:nvPr/>
        </p:nvSpPr>
        <p:spPr>
          <a:xfrm>
            <a:off x="3635280" y="2016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　　 だい　　　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8"/>
          <p:cNvSpPr/>
          <p:nvPr/>
        </p:nvSpPr>
        <p:spPr>
          <a:xfrm>
            <a:off x="1692360" y="5084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9"/>
          <p:cNvSpPr/>
          <p:nvPr/>
        </p:nvSpPr>
        <p:spPr>
          <a:xfrm>
            <a:off x="1692360" y="5516640"/>
            <a:ext cx="647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3419640" y="5229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な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"/>
          <p:cNvSpPr/>
          <p:nvPr/>
        </p:nvSpPr>
        <p:spPr>
          <a:xfrm>
            <a:off x="5364000" y="515772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ち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2"/>
          <p:cNvSpPr/>
          <p:nvPr/>
        </p:nvSpPr>
        <p:spPr>
          <a:xfrm>
            <a:off x="7020000" y="522936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6948360" y="558972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N4M1Q2.mp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86528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10800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547640" y="260280"/>
            <a:ext cx="67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答え方と音声のスクリプトをいっしょに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見てみ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MCj02540960000[1]"/>
          <p:cNvPicPr/>
          <p:nvPr/>
        </p:nvPicPr>
        <p:blipFill>
          <a:blip r:embed="rId1"/>
          <a:stretch/>
        </p:blipFill>
        <p:spPr>
          <a:xfrm>
            <a:off x="468360" y="404640"/>
            <a:ext cx="865080" cy="765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900000" y="2637000"/>
            <a:ext cx="8136000" cy="349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9933"/>
                </a:solidFill>
                <a:latin typeface="Arial"/>
              </a:rPr>
              <a:t>先生が生徒に話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生徒は、パン工場の見学に行くとき、何を持っていかなければなりません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男の人：えー、来週、パン工場の見学に行きます。午前９時にここを出発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お弁当は自分で持っていく予定でしたが、工場の人が用意してく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一緒に食堂で食べます。でも、飲み物は、自分で持っていっ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工場では、写真は撮れないので、カメラは持っていってはいけ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あ、それから、傘を忘れないでください。バスを降りてから、少し歩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雨が降るかもしれませんからね。何か質問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生徒は、何を持っていかなければなりません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6804000" y="2421000"/>
            <a:ext cx="1800360" cy="47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音声のスクリ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2400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1547640" y="1197000"/>
            <a:ext cx="1511640" cy="1224000"/>
          </a:xfrm>
          <a:prstGeom prst="rightArrowCallout">
            <a:avLst>
              <a:gd name="adj1" fmla="val 25002"/>
              <a:gd name="adj2" fmla="val 25000"/>
              <a:gd name="adj3" fmla="val 2058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33"/>
                </a:solidFill>
                <a:latin typeface="Arial"/>
              </a:rPr>
              <a:t>説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3059280" y="1197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4572000" y="119700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6084720" y="1197000"/>
            <a:ext cx="107964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7308720" y="907920"/>
            <a:ext cx="1656000" cy="649440"/>
          </a:xfrm>
          <a:prstGeom prst="wedgeRoundRectCallout">
            <a:avLst>
              <a:gd name="adj1" fmla="val -10305"/>
              <a:gd name="adj2" fmla="val 106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1835280" y="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こた　　　　  かた　　　おん　 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804000" y="24210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6156360" y="1773360"/>
            <a:ext cx="431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971640" y="2593800"/>
            <a:ext cx="28083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9933"/>
                </a:solidFill>
                <a:latin typeface="Arial"/>
              </a:rPr>
              <a:t>せんせい　　　せい　と　　　　はな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108000" y="2637000"/>
            <a:ext cx="720720" cy="3682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33"/>
                </a:solidFill>
                <a:latin typeface="Arial"/>
              </a:rPr>
              <a:t>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108000" y="3141720"/>
            <a:ext cx="72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108000" y="4437000"/>
            <a:ext cx="6476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2"/>
          <p:cNvSpPr/>
          <p:nvPr/>
        </p:nvSpPr>
        <p:spPr>
          <a:xfrm>
            <a:off x="971640" y="342900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973080" y="2954160"/>
            <a:ext cx="4535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せい　と　　　　　　　　　　　　こうじょう　　　けんがく　　　　い　　　　　　　　　　なに　　　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2627280" y="3357720"/>
            <a:ext cx="6121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らいしゅう　　　　　　　  こうじょう　　　　けんがく　　　　い　　　　　　　　　　　ごぜん　　　じ　　　　　　　　　　　    しゅっぱ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2195640" y="37162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べんとう　　　 じ　ぶん　　   も　　　　　　　　　　  よてい　　　　　　　　　　　　こうじょう　　　ひと　　 よう　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1979640" y="4149720"/>
            <a:ext cx="5113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っ  しょ　　　 しょく どう　　　　た　　　　　　　　　　　　　　　　　　　の　　　　もの　　　　　　じぶん　　　　  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8"/>
          <p:cNvSpPr/>
          <p:nvPr/>
        </p:nvSpPr>
        <p:spPr>
          <a:xfrm>
            <a:off x="1979640" y="4508640"/>
            <a:ext cx="4608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うじょう　　　　　　　      しゃ しん　　　   と　　　　　　　　　　　　　　　　　　　　　　　　　　　　も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348000" y="4869000"/>
            <a:ext cx="5545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さ　　　わす　　　　　　　　　　　　　　　　　　　　　　　　　　　　　　　  お　　　　　　　　　　　　　　すこ　　あ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1979640" y="5300640"/>
            <a:ext cx="432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あめ　　　   ふ　　　　　　　　　　　　　　　　　　　　　　　　　　　　　　　　　　なに　　　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971640" y="5661000"/>
            <a:ext cx="22320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せい　と　　　　　　なに　　　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08000" y="5734080"/>
            <a:ext cx="72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1692360" y="119700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9933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1692360" y="1557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3276720" y="1341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66ff"/>
                </a:solidFill>
                <a:latin typeface="Arial"/>
              </a:rPr>
              <a:t>はな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5003640" y="126828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ち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6227640" y="126828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N4M1Q2.mp3" descr=""/>
          <p:cNvPicPr/>
          <p:nvPr/>
        </p:nvPicPr>
        <p:blipFill>
          <a:blip r:embed="rId2"/>
          <a:stretch/>
        </p:blipFill>
        <p:spPr>
          <a:xfrm>
            <a:off x="7885080" y="1916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86528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に出てくる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78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に答えるときのポイントを説明してい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例をやってみ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ここをクリックすると、聴解問題の音声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聞こえます。聴解は、この音声を聞きなが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問題例をやってみ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540960000[1]"/>
          <p:cNvPicPr/>
          <p:nvPr/>
        </p:nvPicPr>
        <p:blipFill>
          <a:blip r:embed="rId1"/>
          <a:stretch/>
        </p:blipFill>
        <p:spPr>
          <a:xfrm>
            <a:off x="468360" y="1700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j00890380000[1]"/>
          <p:cNvPicPr/>
          <p:nvPr/>
        </p:nvPicPr>
        <p:blipFill>
          <a:blip r:embed="rId2"/>
          <a:stretch/>
        </p:blipFill>
        <p:spPr>
          <a:xfrm>
            <a:off x="395280" y="3141720"/>
            <a:ext cx="792000" cy="76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572000" y="400536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ちょう 　かい　もん　だい　　　　 おん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003640" y="1628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403280" y="170028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　　　　　　　　　　　　　　　　　　　　　　　　　　　　　　　　　　　　　　　せつ　め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40328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258920" y="4581360"/>
            <a:ext cx="66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き　　　　　　　　　　　　　　　　　ちょうかい　　　　　　　　　　　　　　おん　せい　　　　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332000" y="51577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9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課題理解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179280" y="836640"/>
            <a:ext cx="2448000" cy="720720"/>
          </a:xfrm>
          <a:prstGeom prst="wedgeRoundRectCallout">
            <a:avLst>
              <a:gd name="adj1" fmla="val -18546"/>
              <a:gd name="adj2" fmla="val 125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5184720" cy="4014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9"/>
          <p:cNvSpPr/>
          <p:nvPr/>
        </p:nvSpPr>
        <p:spPr>
          <a:xfrm>
            <a:off x="155484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２ば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5148360" y="3933720"/>
            <a:ext cx="43164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MCj00890380000[1]"/>
          <p:cNvPicPr/>
          <p:nvPr/>
        </p:nvPicPr>
        <p:blipFill>
          <a:blip r:embed="rId2"/>
          <a:stretch/>
        </p:blipFill>
        <p:spPr>
          <a:xfrm>
            <a:off x="7524720" y="404640"/>
            <a:ext cx="1008000" cy="9702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7"/>
          <p:cNvSpPr/>
          <p:nvPr/>
        </p:nvSpPr>
        <p:spPr>
          <a:xfrm>
            <a:off x="6335640" y="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3635280" y="2016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　　  だい　　 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N4M1Q2.mp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86528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56000" y="333360"/>
            <a:ext cx="57592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②ポイント理解　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は、問題冊子です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08000" y="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395280" y="981000"/>
            <a:ext cx="8497800" cy="554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539640" y="1125360"/>
            <a:ext cx="820908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もんだい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まず　しつもんを　聞いて　ください。そのあと、もんだいようし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見て　ください。読む　時間が　あります。それから　話を　聞いて、もんだいようし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　えらんで　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へやが　せまい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ばしょが　ふべんだ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たてものが　古い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ともだちが　できない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電車が　おくれた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ねぼうした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うちに　さいふを　わすれた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バスの中に　さいふを　わすれた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3924360" y="1484280"/>
            <a:ext cx="79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39640" y="1916280"/>
            <a:ext cx="6048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み　　　　　　　　　　　　　よ　　　　　じ　かん　　　　　　　　　　　　　　　　　　　　　はなし　　　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2556000" y="38606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ふ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1187280" y="49417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ん　し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1979640" y="6093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9" descr="MCj02540960000[1]"/>
          <p:cNvPicPr/>
          <p:nvPr/>
        </p:nvPicPr>
        <p:blipFill>
          <a:blip r:embed="rId1"/>
          <a:stretch/>
        </p:blipFill>
        <p:spPr>
          <a:xfrm>
            <a:off x="1332000" y="189000"/>
            <a:ext cx="934920" cy="826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30"/>
          <p:cNvSpPr/>
          <p:nvPr/>
        </p:nvSpPr>
        <p:spPr>
          <a:xfrm>
            <a:off x="4716360" y="3789360"/>
            <a:ext cx="3673440" cy="431640"/>
          </a:xfrm>
          <a:prstGeom prst="wedgeRoundRectCallout">
            <a:avLst>
              <a:gd name="adj1" fmla="val 2851"/>
              <a:gd name="adj2" fmla="val 386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5364000" y="0"/>
            <a:ext cx="9367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り　　　か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4643280" y="4478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もんだい　さっ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1547640" y="2276640"/>
            <a:ext cx="3600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ひ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68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ポイント理解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179280" y="1125360"/>
            <a:ext cx="1800360" cy="648000"/>
          </a:xfrm>
          <a:prstGeom prst="wedgeRoundRectCallout">
            <a:avLst>
              <a:gd name="adj1" fmla="val -4939"/>
              <a:gd name="adj2" fmla="val 1080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MCj00890380000[1]"/>
          <p:cNvPicPr/>
          <p:nvPr/>
        </p:nvPicPr>
        <p:blipFill>
          <a:blip r:embed="rId1"/>
          <a:stretch/>
        </p:blipFill>
        <p:spPr>
          <a:xfrm>
            <a:off x="7740720" y="404640"/>
            <a:ext cx="863640" cy="8305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395280" y="494172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4"/>
          <p:cNvSpPr/>
          <p:nvPr/>
        </p:nvSpPr>
        <p:spPr>
          <a:xfrm>
            <a:off x="5796000" y="501336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324000" y="4365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/>
          <p:cNvSpPr/>
          <p:nvPr/>
        </p:nvSpPr>
        <p:spPr>
          <a:xfrm>
            <a:off x="4284720" y="501336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2124000" y="1844640"/>
            <a:ext cx="5832720" cy="2360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電車が　おくれた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ねぼうした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うちに　さいふを　わすれた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バスの中に　さいふを　わすれた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2916360" y="2205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ん  し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3851280" y="3645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4"/>
          <p:cNvSpPr/>
          <p:nvPr/>
        </p:nvSpPr>
        <p:spPr>
          <a:xfrm>
            <a:off x="2484360" y="3284640"/>
            <a:ext cx="43200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7308720" y="5013360"/>
            <a:ext cx="100836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1042920" y="638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：何も聞こえない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>
            <a:off x="1979640" y="4941720"/>
            <a:ext cx="2305080" cy="1224000"/>
          </a:xfrm>
          <a:prstGeom prst="rightArrowCallout">
            <a:avLst>
              <a:gd name="adj1" fmla="val 25002"/>
              <a:gd name="adj2" fmla="val 25000"/>
              <a:gd name="adj3" fmla="val 31387"/>
              <a:gd name="adj4" fmla="val 6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の間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選択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読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5219640" y="274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539640" y="494172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539640" y="5300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2843280" y="494172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あい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979640" y="53006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んたく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4500720" y="515772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な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6227640" y="508464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ち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7451640" y="515772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2050920" y="6237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に　　　き　　　　　　　　　　　　じ　　か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8"/>
          <p:cNvSpPr/>
          <p:nvPr/>
        </p:nvSpPr>
        <p:spPr>
          <a:xfrm>
            <a:off x="7308720" y="551664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N4M2Q2.mp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256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ポーズの間に、選択枝を読んでください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411280" y="5157720"/>
            <a:ext cx="424836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１　電車が　おくれた　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２　ねぼうした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３　うちに　さいふを　わすれた　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４　バスの中に　さいふを　わすれた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179280" y="2205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6084720" y="2205000"/>
            <a:ext cx="1513080" cy="1224000"/>
          </a:xfrm>
          <a:prstGeom prst="rightArrowCallout">
            <a:avLst>
              <a:gd name="adj1" fmla="val 25002"/>
              <a:gd name="adj2" fmla="val 25000"/>
              <a:gd name="adj3" fmla="val 2060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4500720" y="2205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MCj02540960000[1]"/>
          <p:cNvPicPr/>
          <p:nvPr/>
        </p:nvPicPr>
        <p:blipFill>
          <a:blip r:embed="rId1"/>
          <a:stretch/>
        </p:blipFill>
        <p:spPr>
          <a:xfrm>
            <a:off x="1258920" y="836640"/>
            <a:ext cx="1225440" cy="10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1"/>
          <p:cNvSpPr/>
          <p:nvPr/>
        </p:nvSpPr>
        <p:spPr>
          <a:xfrm>
            <a:off x="2700360" y="335772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1042920" y="414972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539640" y="3860640"/>
            <a:ext cx="72723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選択枝１・２・３・４を読んで、聞き取るポイントをつかみ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話を聞く準備を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1763640" y="2205000"/>
            <a:ext cx="2664000" cy="1224000"/>
          </a:xfrm>
          <a:prstGeom prst="rightArrowCallout">
            <a:avLst>
              <a:gd name="adj1" fmla="val 25002"/>
              <a:gd name="adj2" fmla="val 25000"/>
              <a:gd name="adj3" fmla="val 36275"/>
              <a:gd name="adj4" fmla="val 6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の間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読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7596360" y="2205000"/>
            <a:ext cx="100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1908000" y="5084640"/>
            <a:ext cx="287640" cy="1008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1692360" y="2565360"/>
            <a:ext cx="100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ん たく　し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539640" y="3838680"/>
            <a:ext cx="5327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せん　たく　　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よ　　　　　　　　　　　　き　　　　　と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5364000" y="260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3419640" y="1557360"/>
            <a:ext cx="2089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　  あいだ　　　　　　せん　たく　　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4000" y="220500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 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4000" y="2565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6516720" y="2205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ち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2771640" y="220500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あい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7596360" y="2708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539640" y="4437000"/>
            <a:ext cx="2232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はなし　　　　　　　　 じゅん  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7740720" y="234936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4716360" y="2349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な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5689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ポイント理解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179280" y="1125360"/>
            <a:ext cx="1800360" cy="648000"/>
          </a:xfrm>
          <a:prstGeom prst="wedgeRoundRectCallout">
            <a:avLst>
              <a:gd name="adj1" fmla="val -16754"/>
              <a:gd name="adj2" fmla="val 122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MCj00890380000[1]"/>
          <p:cNvPicPr/>
          <p:nvPr/>
        </p:nvPicPr>
        <p:blipFill>
          <a:blip r:embed="rId1"/>
          <a:stretch/>
        </p:blipFill>
        <p:spPr>
          <a:xfrm>
            <a:off x="7236000" y="549360"/>
            <a:ext cx="863280" cy="8301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3"/>
          <p:cNvSpPr/>
          <p:nvPr/>
        </p:nvSpPr>
        <p:spPr>
          <a:xfrm>
            <a:off x="1476360" y="2133720"/>
            <a:ext cx="7201080" cy="2925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  １　電車が　おくれたか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ねぼうしたか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うちに　さいふを　わすれたか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バスの中に　さいふを　わすれたか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2484360" y="2565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でん　　し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635280" y="443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6"/>
          <p:cNvSpPr/>
          <p:nvPr/>
        </p:nvSpPr>
        <p:spPr>
          <a:xfrm>
            <a:off x="1979640" y="3933720"/>
            <a:ext cx="43164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6443640" y="18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932360" y="5619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N4M2Q2.mp3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96256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5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　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、問題冊子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395280" y="1628640"/>
            <a:ext cx="7993080" cy="4976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、えを　見ながら　しつもんを　聞いて　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やじるし（→）の　人は　何と　言いますか。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　中から、いちば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いものを　一つ　えらんで　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１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2843280" y="213372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 み　　　　　　　　　　　　　　　　　　　　　　　　　　　き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6" descr="お先に修正3"/>
          <p:cNvPicPr/>
          <p:nvPr/>
        </p:nvPicPr>
        <p:blipFill>
          <a:blip r:embed="rId1"/>
          <a:srcRect l="10976" t="0" r="0" b="1476"/>
          <a:stretch/>
        </p:blipFill>
        <p:spPr>
          <a:xfrm>
            <a:off x="3132000" y="3645000"/>
            <a:ext cx="1738440" cy="1373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4300010 ホテルのテレビ修正2"/>
          <p:cNvPicPr/>
          <p:nvPr/>
        </p:nvPicPr>
        <p:blipFill>
          <a:blip r:embed="rId2"/>
          <a:stretch/>
        </p:blipFill>
        <p:spPr>
          <a:xfrm>
            <a:off x="3132000" y="5229360"/>
            <a:ext cx="1657440" cy="1285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MCj02540960000[1]"/>
          <p:cNvPicPr/>
          <p:nvPr/>
        </p:nvPicPr>
        <p:blipFill>
          <a:blip r:embed="rId3"/>
          <a:stretch/>
        </p:blipFill>
        <p:spPr>
          <a:xfrm>
            <a:off x="1908000" y="476280"/>
            <a:ext cx="935280" cy="82692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19"/>
          <p:cNvSpPr/>
          <p:nvPr/>
        </p:nvSpPr>
        <p:spPr>
          <a:xfrm>
            <a:off x="5470560" y="4437000"/>
            <a:ext cx="3673440" cy="432000"/>
          </a:xfrm>
          <a:prstGeom prst="wedgeRoundRectCallout">
            <a:avLst>
              <a:gd name="adj1" fmla="val -14518"/>
              <a:gd name="adj2" fmla="val -386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0"/>
          <p:cNvSpPr/>
          <p:nvPr/>
        </p:nvSpPr>
        <p:spPr>
          <a:xfrm>
            <a:off x="3922560" y="44280"/>
            <a:ext cx="22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はつ　　わ　　ひょう　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995640" y="765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だい　さっ  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2050920" y="256536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 ひと　　　　　なん　　　　　い　　　　　　　　　　　　　　　　　　　　　　　　　　　　　　　なか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1692360" y="2997360"/>
            <a:ext cx="576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ひと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131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発話表現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/>
          <p:cNvSpPr/>
          <p:nvPr/>
        </p:nvSpPr>
        <p:spPr>
          <a:xfrm>
            <a:off x="0" y="692280"/>
            <a:ext cx="1906560" cy="576000"/>
          </a:xfrm>
          <a:prstGeom prst="wedgeRoundRectCallout">
            <a:avLst>
              <a:gd name="adj1" fmla="val -21606"/>
              <a:gd name="adj2" fmla="val 214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8" descr="MCj00890380000[1]"/>
          <p:cNvPicPr/>
          <p:nvPr/>
        </p:nvPicPr>
        <p:blipFill>
          <a:blip r:embed="rId1"/>
          <a:stretch/>
        </p:blipFill>
        <p:spPr>
          <a:xfrm>
            <a:off x="7667640" y="333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9"/>
          <p:cNvSpPr/>
          <p:nvPr/>
        </p:nvSpPr>
        <p:spPr>
          <a:xfrm>
            <a:off x="2340000" y="551664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ラストを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04292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6877080" y="3357720"/>
            <a:ext cx="1295280" cy="100800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しい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1332000" y="1341360"/>
            <a:ext cx="7632720" cy="38818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えを　見ながら　しつもんを　聞いて　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じるし（→）の　人は　何と　言いますか。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　中から、いち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いいものを　一つ　えらんで　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１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1" descr="お先に修正3"/>
          <p:cNvPicPr/>
          <p:nvPr/>
        </p:nvPicPr>
        <p:blipFill>
          <a:blip r:embed="rId2"/>
          <a:srcRect l="10976" t="0" r="0" b="1476"/>
          <a:stretch/>
        </p:blipFill>
        <p:spPr>
          <a:xfrm>
            <a:off x="3851280" y="3368520"/>
            <a:ext cx="2027160" cy="16020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25"/>
          <p:cNvSpPr/>
          <p:nvPr/>
        </p:nvSpPr>
        <p:spPr>
          <a:xfrm>
            <a:off x="5219640" y="5445000"/>
            <a:ext cx="237672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言うこと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rot="3120000">
            <a:off x="5435640" y="609264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8"/>
          <p:cNvSpPr/>
          <p:nvPr/>
        </p:nvSpPr>
        <p:spPr>
          <a:xfrm>
            <a:off x="5508720" y="3357720"/>
            <a:ext cx="431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3851280" y="260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はつ　　わ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2556000" y="58770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つめい　　しつも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5867280" y="623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7093080" y="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N4M3Q1.mp3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24"/>
          <p:cNvSpPr/>
          <p:nvPr/>
        </p:nvSpPr>
        <p:spPr>
          <a:xfrm>
            <a:off x="2916360" y="206064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ひと　　　　　なん　　　　い　　　　　　　　　　　　　　　　　　　　　　　　　　　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3492360" y="1628640"/>
            <a:ext cx="34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み　　　　　　　　　　　　　　　　　　　　　　　　き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2484360" y="2492280"/>
            <a:ext cx="57636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ひと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6352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6" descr="MCj02540960000[1]"/>
          <p:cNvPicPr/>
          <p:nvPr/>
        </p:nvPicPr>
        <p:blipFill>
          <a:blip r:embed="rId1"/>
          <a:stretch/>
        </p:blipFill>
        <p:spPr>
          <a:xfrm>
            <a:off x="1619280" y="98100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518" name="Line 7"/>
          <p:cNvSpPr/>
          <p:nvPr/>
        </p:nvSpPr>
        <p:spPr>
          <a:xfrm>
            <a:off x="2268360" y="3141720"/>
            <a:ext cx="0" cy="574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539640" y="378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　　の人に注意し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5580000" y="3284640"/>
            <a:ext cx="0" cy="936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4211640" y="4292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選択枝は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３つで、音声です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1403280" y="198900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イラストを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2"/>
          <p:cNvSpPr/>
          <p:nvPr/>
        </p:nvSpPr>
        <p:spPr>
          <a:xfrm rot="3120000">
            <a:off x="683640" y="39340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3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2666880" cy="1879920"/>
          </a:xfrm>
          <a:prstGeom prst="rect">
            <a:avLst/>
          </a:prstGeom>
          <a:ln w="0">
            <a:noFill/>
          </a:ln>
        </p:spPr>
      </p:pic>
      <p:sp>
        <p:nvSpPr>
          <p:cNvPr id="525" name="Oval 14"/>
          <p:cNvSpPr/>
          <p:nvPr/>
        </p:nvSpPr>
        <p:spPr>
          <a:xfrm>
            <a:off x="3059280" y="4221000"/>
            <a:ext cx="3585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5"/>
          <p:cNvSpPr/>
          <p:nvPr/>
        </p:nvSpPr>
        <p:spPr>
          <a:xfrm rot="3120000">
            <a:off x="4643280" y="263664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4356000" y="1989000"/>
            <a:ext cx="2374920" cy="122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言うこと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995640" y="40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はつ　　 わ　　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4284720" y="4199040"/>
            <a:ext cx="338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ん　たく　　し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　　　　　　　　　　　　　　　　 おん  せい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539640" y="3716280"/>
            <a:ext cx="223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じるし　　　　　　　　　　 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ちゅう　い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1619280" y="234936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せつめい　　  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1"/>
          <p:cNvSpPr/>
          <p:nvPr/>
        </p:nvSpPr>
        <p:spPr>
          <a:xfrm>
            <a:off x="5003640" y="2852640"/>
            <a:ext cx="43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131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発話表現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0" y="692280"/>
            <a:ext cx="1906560" cy="576000"/>
          </a:xfrm>
          <a:prstGeom prst="wedgeRoundRectCallout">
            <a:avLst>
              <a:gd name="adj1" fmla="val -21606"/>
              <a:gd name="adj2" fmla="val 214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" descr="MCj00890380000[1]"/>
          <p:cNvPicPr/>
          <p:nvPr/>
        </p:nvPicPr>
        <p:blipFill>
          <a:blip r:embed="rId1"/>
          <a:stretch/>
        </p:blipFill>
        <p:spPr>
          <a:xfrm>
            <a:off x="7740720" y="333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539" name="Oval 11"/>
          <p:cNvSpPr/>
          <p:nvPr/>
        </p:nvSpPr>
        <p:spPr>
          <a:xfrm>
            <a:off x="7164360" y="5229360"/>
            <a:ext cx="1295280" cy="100800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しい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971640" y="1386000"/>
            <a:ext cx="7632720" cy="534960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、えを　見ながら　しつもんを　聞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ださい。 やじるし（→）の　人は　何と　言い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　えらん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１ば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3" descr="お先に修正3"/>
          <p:cNvPicPr/>
          <p:nvPr/>
        </p:nvPicPr>
        <p:blipFill>
          <a:blip r:embed="rId2"/>
          <a:srcRect l="10976" t="0" r="0" b="1476"/>
          <a:stretch/>
        </p:blipFill>
        <p:spPr>
          <a:xfrm>
            <a:off x="3132000" y="4005360"/>
            <a:ext cx="3240360" cy="25606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4"/>
          <p:cNvSpPr/>
          <p:nvPr/>
        </p:nvSpPr>
        <p:spPr>
          <a:xfrm>
            <a:off x="3995640" y="191628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み　　　　　　　　　　　　　　　　　　　　　　　　　　　　　　　　き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00720" y="242100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ひと　　　　　　　なん　　　　　　い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3851280" y="260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はつ　  わ　 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6443640" y="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N4M3Q1.mp3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4"/>
          <p:cNvSpPr/>
          <p:nvPr/>
        </p:nvSpPr>
        <p:spPr>
          <a:xfrm>
            <a:off x="2411280" y="2924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　　　　　　　　　　　　　　　　　　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36352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600"/>
            </a:b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、問題冊子です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042920" y="2133720"/>
            <a:ext cx="7345440" cy="33598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もんだい４では、えなどが　ありません。まず　ぶんを聞いて　ください。それから、そのへんじを　聞い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16000" y="3213000"/>
            <a:ext cx="669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き　　　　　　　　　　　　　　　　　　　　　　　　　　　　　　　　　　　　　　　　　　　　　　　　　　　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MCj02540960000[1]"/>
          <p:cNvPicPr/>
          <p:nvPr/>
        </p:nvPicPr>
        <p:blipFill>
          <a:blip r:embed="rId1"/>
          <a:stretch/>
        </p:blipFill>
        <p:spPr>
          <a:xfrm>
            <a:off x="1692360" y="998640"/>
            <a:ext cx="1079280" cy="9540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11"/>
          <p:cNvSpPr/>
          <p:nvPr/>
        </p:nvSpPr>
        <p:spPr>
          <a:xfrm>
            <a:off x="4932360" y="5805360"/>
            <a:ext cx="3743280" cy="432000"/>
          </a:xfrm>
          <a:prstGeom prst="wedgeRoundRectCallout">
            <a:avLst>
              <a:gd name="adj1" fmla="val -9671"/>
              <a:gd name="adj2" fmla="val -27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924360" y="11592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4067280" y="1268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 だい　さっ  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2484360" y="3716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　　　　　　　　　　　　　　　　　　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４の試験科目と問題構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8920" y="1125360"/>
          <a:ext cx="6480000" cy="5426280"/>
        </p:xfrm>
        <a:graphic>
          <a:graphicData uri="http://schemas.openxmlformats.org/drawingml/2006/table">
            <a:tbl>
              <a:tblPr/>
              <a:tblGrid>
                <a:gridCol w="1440000"/>
                <a:gridCol w="1150920"/>
                <a:gridCol w="1800000"/>
                <a:gridCol w="20890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試験科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旧試験との比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字・語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漢字読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脈規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い換え類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章の文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報検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聴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課題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ポイント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発話表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即時応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371"/>
          <p:cNvSpPr/>
          <p:nvPr/>
        </p:nvSpPr>
        <p:spPr>
          <a:xfrm>
            <a:off x="3059280" y="18900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　　　けん　　　か　　　もく　　　　　　もん　　　だい　　こう　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即時応答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179280" y="1125360"/>
            <a:ext cx="1800360" cy="648000"/>
          </a:xfrm>
          <a:prstGeom prst="wedgeRoundRectCallout">
            <a:avLst>
              <a:gd name="adj1" fmla="val -8379"/>
              <a:gd name="adj2" fmla="val 98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MCj00890380000[1]"/>
          <p:cNvPicPr/>
          <p:nvPr/>
        </p:nvPicPr>
        <p:blipFill>
          <a:blip r:embed="rId1"/>
          <a:stretch/>
        </p:blipFill>
        <p:spPr>
          <a:xfrm>
            <a:off x="7451640" y="404640"/>
            <a:ext cx="1150920" cy="1106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9"/>
          <p:cNvSpPr/>
          <p:nvPr/>
        </p:nvSpPr>
        <p:spPr>
          <a:xfrm>
            <a:off x="2268360" y="522936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短い文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104292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20000" y="386064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しい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1258920" y="1844640"/>
            <a:ext cx="7561080" cy="30808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んだい４では、えなどが　ありません。まず　ぶん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聞いて　ください。それから、そのへんじを　聞い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5148360" y="5229360"/>
            <a:ext cx="2663640" cy="1295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返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正しいものを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7093080" y="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3780000" y="40464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2627280" y="537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みじか　　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6443640" y="5589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へん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5435640" y="595008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　　　　　　　　　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N4M4Q1.mp3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7"/>
          <p:cNvSpPr/>
          <p:nvPr/>
        </p:nvSpPr>
        <p:spPr>
          <a:xfrm>
            <a:off x="1332000" y="2852640"/>
            <a:ext cx="66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き　　　　　　　　　　　　　　　　　　　　　　　　　　　　　　　　　　　　　　　　　　　　　　　　　　　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2700360" y="342900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　　　　　　　　　　　　　　　　　　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35328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即時応答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MCj02540960000[1]"/>
          <p:cNvPicPr/>
          <p:nvPr/>
        </p:nvPicPr>
        <p:blipFill>
          <a:blip r:embed="rId1"/>
          <a:stretch/>
        </p:blipFill>
        <p:spPr>
          <a:xfrm>
            <a:off x="1332000" y="90792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12"/>
          <p:cNvSpPr/>
          <p:nvPr/>
        </p:nvSpPr>
        <p:spPr>
          <a:xfrm>
            <a:off x="1763640" y="2060640"/>
            <a:ext cx="3240000" cy="1224000"/>
          </a:xfrm>
          <a:prstGeom prst="rightArrowCallout">
            <a:avLst>
              <a:gd name="adj1" fmla="val 25002"/>
              <a:gd name="adj2" fmla="val 25000"/>
              <a:gd name="adj3" fmla="val 4411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短い文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4" descr="MCj04339340000[1]"/>
          <p:cNvPicPr/>
          <p:nvPr/>
        </p:nvPicPr>
        <p:blipFill>
          <a:blip r:embed="rId2"/>
          <a:stretch/>
        </p:blipFill>
        <p:spPr>
          <a:xfrm>
            <a:off x="4067280" y="4581360"/>
            <a:ext cx="1347840" cy="13478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7"/>
          <p:cNvSpPr/>
          <p:nvPr/>
        </p:nvSpPr>
        <p:spPr>
          <a:xfrm>
            <a:off x="5076720" y="2060640"/>
            <a:ext cx="2664000" cy="1295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返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正しいものを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 rot="16200000">
            <a:off x="4500360" y="691560"/>
            <a:ext cx="576360" cy="6050160"/>
          </a:xfrm>
          <a:custGeom>
            <a:avLst/>
            <a:gdLst>
              <a:gd name="textAreaLeft" fmla="*/ 368280 w 576360"/>
              <a:gd name="textAreaRight" fmla="*/ 576720 w 576360"/>
              <a:gd name="textAreaTop" fmla="*/ 157680 h 6050160"/>
              <a:gd name="textAreaBottom" fmla="*/ 5892480 h 605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0"/>
                </a:lnTo>
                <a:cubicBezTo>
                  <a:pt x="10800" y="9970"/>
                  <a:pt x="5400" y="10870"/>
                  <a:pt x="0" y="10870"/>
                </a:cubicBezTo>
                <a:cubicBezTo>
                  <a:pt x="5400" y="10870"/>
                  <a:pt x="10800" y="11770"/>
                  <a:pt x="10800" y="126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3276720" y="4076640"/>
            <a:ext cx="2950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ひとつの会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6084720" y="4653000"/>
            <a:ext cx="29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選択枝は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３つで、音声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7380360" y="32846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2"/>
          <p:cNvSpPr/>
          <p:nvPr/>
        </p:nvSpPr>
        <p:spPr>
          <a:xfrm>
            <a:off x="3851280" y="476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そく　　　じ　　 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>
            <a:off x="2340000" y="220500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みじか　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6372360" y="2421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へん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>
            <a:off x="5364000" y="2781360"/>
            <a:ext cx="20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　　　　　　　　　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"/>
          <p:cNvSpPr/>
          <p:nvPr/>
        </p:nvSpPr>
        <p:spPr>
          <a:xfrm>
            <a:off x="4643280" y="4005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かい　　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6084720" y="450864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んたくし　　　　　　　　　　　　　　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おん　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即時応答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４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79280" y="1125360"/>
            <a:ext cx="1800360" cy="648000"/>
          </a:xfrm>
          <a:prstGeom prst="wedgeRoundRectCallout">
            <a:avLst>
              <a:gd name="adj1" fmla="val -8379"/>
              <a:gd name="adj2" fmla="val 98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MCj00890380000[1]"/>
          <p:cNvPicPr/>
          <p:nvPr/>
        </p:nvPicPr>
        <p:blipFill>
          <a:blip r:embed="rId1"/>
          <a:stretch/>
        </p:blipFill>
        <p:spPr>
          <a:xfrm>
            <a:off x="7451640" y="404640"/>
            <a:ext cx="1150920" cy="1106640"/>
          </a:xfrm>
          <a:prstGeom prst="rect">
            <a:avLst/>
          </a:prstGeom>
          <a:ln w="0">
            <a:noFill/>
          </a:ln>
        </p:spPr>
      </p:pic>
      <p:sp>
        <p:nvSpPr>
          <p:cNvPr id="600" name="Oval 10"/>
          <p:cNvSpPr/>
          <p:nvPr/>
        </p:nvSpPr>
        <p:spPr>
          <a:xfrm>
            <a:off x="6732720" y="422100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しい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3780000" y="41760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そく　　  じ　　 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6443640" y="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N4M4Q1.mp3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1258920" y="1916280"/>
            <a:ext cx="7345440" cy="33598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もんだい４では、えなどが　ありません。まず　ぶんを聞いて　ください。それから、そのへんじを　聞い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中から、いちばん　いいものを　一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258920" y="2997360"/>
            <a:ext cx="669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き　　　　　　　　　　　　　　　　　　　　　　　　　　　　　　　　　　　　　　　　　　　　　　　　　　　　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700360" y="3500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か　　　　　　　　　　　　　　　　　　　　　　　　　　　　　　　　　　　　　　　　　　　　　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35328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言語知識（文字・語彙）の問題構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557360"/>
          <a:ext cx="8569080" cy="4226040"/>
        </p:xfrm>
        <a:graphic>
          <a:graphicData uri="http://schemas.openxmlformats.org/drawingml/2006/table">
            <a:tbl>
              <a:tblPr/>
              <a:tblGrid>
                <a:gridCol w="4825800"/>
                <a:gridCol w="3743280"/>
              </a:tblGrid>
              <a:tr h="58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漢字読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脈規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言い換え類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用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96"/>
          <p:cNvSpPr/>
          <p:nvPr/>
        </p:nvSpPr>
        <p:spPr>
          <a:xfrm>
            <a:off x="1692360" y="404640"/>
            <a:ext cx="66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げん　　ご　　　ち　　　しき　　　　　も　　　 じ　　　　　 ご　　　い　　　　　　　　 　もん　　だい　　こう　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8"/>
          <p:cNvSpPr/>
          <p:nvPr/>
        </p:nvSpPr>
        <p:spPr>
          <a:xfrm>
            <a:off x="1042920" y="2133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ん　　じ　　　　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9"/>
          <p:cNvSpPr/>
          <p:nvPr/>
        </p:nvSpPr>
        <p:spPr>
          <a:xfrm>
            <a:off x="971640" y="2852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ひょう　　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971640" y="3573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ぶん　みゃく　　 き　　 て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900000" y="4292640"/>
            <a:ext cx="27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い　　　　　　　　か　　　　　　　 るい　　 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97164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よう　　ほ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411280" y="5157720"/>
            <a:ext cx="50328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漢字読み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3800" spc="-1" strike="noStrike">
                <a:solidFill>
                  <a:srgbClr val="cc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8000" y="4428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187280" y="1700280"/>
            <a:ext cx="756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　　一つの文で一つの漢字の読み方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35164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ばは　どう　よみ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　いちばん　いい　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には　バスで　会社に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通っ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むかって　　２　かよって　　３　わたって　　４　もどって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MCj02540960000[1]"/>
          <p:cNvPicPr/>
          <p:nvPr/>
        </p:nvPicPr>
        <p:blipFill>
          <a:blip r:embed="rId1"/>
          <a:stretch/>
        </p:blipFill>
        <p:spPr>
          <a:xfrm>
            <a:off x="395280" y="1341360"/>
            <a:ext cx="109224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MCj00890380000[1]"/>
          <p:cNvPicPr/>
          <p:nvPr/>
        </p:nvPicPr>
        <p:blipFill>
          <a:blip r:embed="rId2"/>
          <a:stretch/>
        </p:blipFill>
        <p:spPr>
          <a:xfrm>
            <a:off x="6948360" y="335772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3564000" y="404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ん　　 じ　　　 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692360" y="1557360"/>
            <a:ext cx="496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ひと　　　　　　　 ぶん　　　　　　　　　　　　　　　かん　じ　　　　　　よ　　　　　かた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  こ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516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6084720" y="4869000"/>
            <a:ext cx="50328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表記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08000" y="4428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４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547640" y="1413000"/>
            <a:ext cx="6767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一つの文で一つの漢字の書き方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24000" y="2205000"/>
            <a:ext cx="8424720" cy="324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ことばは　どう　かき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　いちばん　いい　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ふねで　にもつを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おくります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近ります 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逆ります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辺ります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送り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MCj00890380000[1]"/>
          <p:cNvPicPr/>
          <p:nvPr/>
        </p:nvPicPr>
        <p:blipFill>
          <a:blip r:embed="rId1"/>
          <a:stretch/>
        </p:blipFill>
        <p:spPr>
          <a:xfrm>
            <a:off x="7093080" y="2637000"/>
            <a:ext cx="1114200" cy="106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2540960000[1]"/>
          <p:cNvPicPr/>
          <p:nvPr/>
        </p:nvPicPr>
        <p:blipFill>
          <a:blip r:embed="rId2"/>
          <a:stretch/>
        </p:blipFill>
        <p:spPr>
          <a:xfrm>
            <a:off x="395280" y="119700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665964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619280" y="1268280"/>
            <a:ext cx="57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ひと　　　　　　　　ぶん　　　　　　　　　　　　　　 かん　 じ　　　　　　か　　　　 かた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こ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995640" y="333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ひょう　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脈規定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95280" y="1916280"/>
            <a:ext cx="842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（　　）に　なにを　いれますか。１・２・３・４から　いちばん　いい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のを　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スーパーで　もらった 　（　　　）を　見ると、　何を　買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わか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レジ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レシート 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おつり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さい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1692360" y="4365720"/>
            <a:ext cx="43164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79280" y="189000"/>
            <a:ext cx="38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MCj00890380000[1]"/>
          <p:cNvPicPr/>
          <p:nvPr/>
        </p:nvPicPr>
        <p:blipFill>
          <a:blip r:embed="rId1"/>
          <a:stretch/>
        </p:blipFill>
        <p:spPr>
          <a:xfrm>
            <a:off x="7596360" y="47628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709308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7650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ぶん　 みゃく　　 き　　 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言い換え類義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2205000"/>
            <a:ext cx="9360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1332000" y="5516640"/>
            <a:ext cx="43164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79280" y="18900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ぶんと　だいたい　おなじ　いみの　ぶん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あります。１・２・３・４から　いちばん　いい　ものを　ひと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パスポート　ばんごうを　しらせ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パスポート　ばんごうを　うつし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パスポート　ばんごうを　なおし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パスポート　ばんごうを　きめて　ください。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パスポート　ばんごうを　おしえ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MCj00890380000[1]"/>
          <p:cNvPicPr/>
          <p:nvPr/>
        </p:nvPicPr>
        <p:blipFill>
          <a:blip r:embed="rId1"/>
          <a:stretch/>
        </p:blipFill>
        <p:spPr>
          <a:xfrm>
            <a:off x="7596360" y="47628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709308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130560" y="836640"/>
            <a:ext cx="30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　　　　　　　　か　　　　　　　るい　　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47:26Z</dcterms:created>
  <dc:creator>国際交流基金</dc:creator>
  <dc:description/>
  <dc:language>en-US</dc:language>
  <cp:lastModifiedBy>国際交流基金</cp:lastModifiedBy>
  <dcterms:modified xsi:type="dcterms:W3CDTF">2010-07-12T07:59:47Z</dcterms:modified>
  <cp:revision>91</cp:revision>
  <dc:subject/>
  <dc:title>新しい日本語能力試験 N3の問題例</dc:title>
</cp:coreProperties>
</file>